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7120" y="1162080"/>
            <a:ext cx="557532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7AAA-552C-4D13-BCC3-861E7542837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435C-B9AE-458F-8168-D3FA524E9D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A9D-527E-4948-8F2E-AA8672CD40F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68EA-9FDB-4DDE-A33C-0B41019C175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D67E-F8EC-4F83-9DAA-F9300C8CE31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4350-6B26-4D4B-95B2-9B6C65306FF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76DA-EFE4-436B-9B33-6B12366F1AD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161E-ED01-4630-BEDE-214D3FFBD70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FCB7-0E23-421F-9C26-0ED46AD7C5C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A0EA-A8DA-42B5-9AF8-7FDD59461FD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0179-7184-4F04-BF93-4EA84A0A326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4176-880E-4BDC-BABE-622ED1E9404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16E-06B9-4074-AF50-4527AD94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345-A11F-4403-8D96-1979B05E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16C-4E25-40BA-80B2-A0593516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37C-F2FB-4BEC-AFD3-12599600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4EB-19E2-42C2-837F-B3D03CC2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8BA-32D8-4FB5-B481-C1B51F72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BD3-47F7-449E-B16B-01483547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313-51CF-4A6F-A650-556069F3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5B4-C27D-4E16-86A8-CD75BCC2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CFA-B75F-4F96-BE3D-614BA6BB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CE6-6588-418B-BDAC-8E926C19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A51-16C2-4384-B1BF-27A7204E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4715-04B5-4A6C-859E-484945ABA5C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6440" y="195120"/>
            <a:ext cx="11603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de dezembro/2018 (INP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" descr=""/>
          <p:cNvPicPr/>
          <p:nvPr/>
        </p:nvPicPr>
        <p:blipFill>
          <a:blip r:embed="rId1"/>
          <a:stretch/>
        </p:blipFill>
        <p:spPr>
          <a:xfrm>
            <a:off x="136440" y="982800"/>
            <a:ext cx="1184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VOLUÇÃO TEMP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1520" y="1540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1" descr=""/>
          <p:cNvPicPr/>
          <p:nvPr/>
        </p:nvPicPr>
        <p:blipFill>
          <a:blip r:embed="rId1"/>
          <a:stretch/>
        </p:blipFill>
        <p:spPr>
          <a:xfrm>
            <a:off x="0" y="649440"/>
            <a:ext cx="121921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09480" y="2127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m 1" descr=""/>
          <p:cNvPicPr/>
          <p:nvPr/>
        </p:nvPicPr>
        <p:blipFill>
          <a:blip r:embed="rId1"/>
          <a:stretch/>
        </p:blipFill>
        <p:spPr>
          <a:xfrm>
            <a:off x="19080" y="709560"/>
            <a:ext cx="121442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0320" y="85680"/>
            <a:ext cx="10880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1213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222120"/>
            <a:ext cx="10964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9440" y="6175440"/>
            <a:ext cx="663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m 1" descr=""/>
          <p:cNvPicPr/>
          <p:nvPr/>
        </p:nvPicPr>
        <p:blipFill>
          <a:blip r:embed="rId1"/>
          <a:stretch/>
        </p:blipFill>
        <p:spPr>
          <a:xfrm>
            <a:off x="0" y="898560"/>
            <a:ext cx="121921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27000" y="247680"/>
            <a:ext cx="1195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7000" y="6048360"/>
            <a:ext cx="75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8 estimado de acordo com a Grade de Parâmetros da SPE/MECON de 01/2019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" descr=""/>
          <p:cNvPicPr/>
          <p:nvPr/>
        </p:nvPicPr>
        <p:blipFill>
          <a:blip r:embed="rId1"/>
          <a:stretch/>
        </p:blipFill>
        <p:spPr>
          <a:xfrm>
            <a:off x="27000" y="901800"/>
            <a:ext cx="1204596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3480" y="642636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3480" y="88920"/>
            <a:ext cx="1103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m 1" descr=""/>
          <p:cNvPicPr/>
          <p:nvPr/>
        </p:nvPicPr>
        <p:blipFill>
          <a:blip r:embed="rId1"/>
          <a:stretch/>
        </p:blipFill>
        <p:spPr>
          <a:xfrm>
            <a:off x="33480" y="749160"/>
            <a:ext cx="120394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4562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39680"/>
            <a:ext cx="1203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m 1" descr=""/>
          <p:cNvPicPr/>
          <p:nvPr/>
        </p:nvPicPr>
        <p:blipFill>
          <a:blip r:embed="rId1"/>
          <a:stretch/>
        </p:blipFill>
        <p:spPr>
          <a:xfrm>
            <a:off x="0" y="860400"/>
            <a:ext cx="121442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85760"/>
            <a:ext cx="10848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Média móvel de 12 me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3 a dezembro/2018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(INPC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m 1" descr=""/>
          <p:cNvPicPr/>
          <p:nvPr/>
        </p:nvPicPr>
        <p:blipFill>
          <a:blip r:embed="rId1"/>
          <a:stretch/>
        </p:blipFill>
        <p:spPr>
          <a:xfrm>
            <a:off x="0" y="762120"/>
            <a:ext cx="12125160" cy="51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aixaDeTexto 1"/>
          <p:cNvSpPr/>
          <p:nvPr/>
        </p:nvSpPr>
        <p:spPr>
          <a:xfrm>
            <a:off x="1623600" y="463680"/>
            <a:ext cx="87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articipação do RGPS na despesa primária do governo central – em % do total – 2010 e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Gráfico 4" descr=""/>
          <p:cNvPicPr/>
          <p:nvPr/>
        </p:nvPicPr>
        <p:blipFill>
          <a:blip r:embed="rId1"/>
          <a:stretch/>
        </p:blipFill>
        <p:spPr>
          <a:xfrm>
            <a:off x="2066760" y="828720"/>
            <a:ext cx="8163000" cy="4790880"/>
          </a:xfrm>
          <a:prstGeom prst="rect">
            <a:avLst/>
          </a:prstGeom>
          <a:ln w="0">
            <a:noFill/>
          </a:ln>
        </p:spPr>
      </p:pic>
      <p:sp>
        <p:nvSpPr>
          <p:cNvPr id="101" name="Retângulo 2"/>
          <p:cNvSpPr/>
          <p:nvPr/>
        </p:nvSpPr>
        <p:spPr>
          <a:xfrm>
            <a:off x="1940040" y="5707080"/>
            <a:ext cx="60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/Elaboração: SPREV/MEC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7520" y="14760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7520" y="5987880"/>
            <a:ext cx="805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m 1" descr=""/>
          <p:cNvPicPr/>
          <p:nvPr/>
        </p:nvPicPr>
        <p:blipFill>
          <a:blip r:embed="rId1"/>
          <a:stretch/>
        </p:blipFill>
        <p:spPr>
          <a:xfrm>
            <a:off x="0" y="50796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138240"/>
            <a:ext cx="1149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1998 e 2018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5996160"/>
            <a:ext cx="78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m 1" descr=""/>
          <p:cNvPicPr/>
          <p:nvPr/>
        </p:nvPicPr>
        <p:blipFill>
          <a:blip r:embed="rId1"/>
          <a:stretch/>
        </p:blipFill>
        <p:spPr>
          <a:xfrm>
            <a:off x="47520" y="614520"/>
            <a:ext cx="118810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680" y="563400"/>
            <a:ext cx="12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dezembro de 2018, a quantidade de benefícios previdenciários e acidentários emitidos pela Previdência aumentou 32,9%, passando de 22,8 milhões para 30,3 milhõ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680" y="203040"/>
            <a:ext cx="1112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ed7d31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8 a 2018 (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680" y="6059520"/>
            <a:ext cx="779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m 1" descr=""/>
          <p:cNvPicPr/>
          <p:nvPr/>
        </p:nvPicPr>
        <p:blipFill>
          <a:blip r:embed="rId1"/>
          <a:stretch/>
        </p:blipFill>
        <p:spPr>
          <a:xfrm>
            <a:off x="4680" y="1123920"/>
            <a:ext cx="1213956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92160" y="334800"/>
            <a:ext cx="969804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480" y="136440"/>
            <a:ext cx="954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6149880"/>
            <a:ext cx="662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m 1" descr=""/>
          <p:cNvPicPr/>
          <p:nvPr/>
        </p:nvPicPr>
        <p:blipFill>
          <a:blip r:embed="rId1"/>
          <a:stretch/>
        </p:blipFill>
        <p:spPr>
          <a:xfrm>
            <a:off x="0" y="65736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157320"/>
            <a:ext cx="10642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7480" y="6099120"/>
            <a:ext cx="659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m 1" descr=""/>
          <p:cNvPicPr/>
          <p:nvPr/>
        </p:nvPicPr>
        <p:blipFill>
          <a:blip r:embed="rId1"/>
          <a:stretch/>
        </p:blipFill>
        <p:spPr>
          <a:xfrm>
            <a:off x="0" y="757080"/>
            <a:ext cx="1214424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840" y="144360"/>
            <a:ext cx="953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4080" y="13032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240" y="147600"/>
            <a:ext cx="1019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119160" y="79704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2440" y="125280"/>
            <a:ext cx="11022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 (2017 e 2018) – Em R$ milhões de dezembro/2018 (INP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645012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0" y="903240"/>
            <a:ext cx="119286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280" y="114480"/>
            <a:ext cx="11572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1"/>
          <a:stretch/>
        </p:blipFill>
        <p:spPr>
          <a:xfrm>
            <a:off x="125280" y="976320"/>
            <a:ext cx="12045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Silvana do Socorro Machado Rodrigues - MPS</cp:lastModifiedBy>
  <cp:lastPrinted>2019-02-28T11:12:21Z</cp:lastPrinted>
  <dcterms:modified xsi:type="dcterms:W3CDTF">2019-02-28T11:19:36Z</dcterms:modified>
  <cp:revision>28</cp:revision>
  <dc:subject/>
  <dc:title>Apresentação do PowerPoint</dc:title>
</cp:coreProperties>
</file>